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653-E777-430D-A587-1AAD8E52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3CF-2E8F-4F76-9401-69EF87FF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5F6-6D13-4C83-AF6C-BE67492B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43B-EC39-4BD6-A505-10DF4CA0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08E5-05FA-46A2-B469-832C4018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89FA-CDBE-4839-AB86-4CE6C8C4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457-F238-49D8-BE01-796A162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BDA-D156-4519-9C3A-3A9076DB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76F5-7F99-4B52-AA62-C88E3C2A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02B-09E7-4913-853B-94A1E64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D8E3-CEF8-4C36-94DB-341AAFD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FC4-56F8-4D00-8A93-C76AA77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4E59-C557-4478-A6E3-D8CD2E7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CBF-E07B-409C-9154-B74AF26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44E-4D1A-46EF-8F65-17B20D8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D49-B3B2-4CA8-B9BD-E96055D0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6465-D2D0-495F-A7EC-D67AA947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4C4-F0DB-4389-8D31-84ACF5C5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80A-93B6-4431-8A3D-FB1F9035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918-962D-4F07-B2CD-8EB5B9F1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FD2-100C-4416-9FEC-06E5A55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93E-83D8-41AA-BEF2-2F57903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B3F-B5E1-4818-9708-B6FA0CA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31E-080D-428A-8C1A-88A362F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57E1-3127-4E28-8168-82F4C872A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2123-B626-422A-BB9F-CEE2F123C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acting together as a group can accomplish things which no individual acting alone could ever hope to bring abo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81240" y="2057400"/>
            <a:ext cx="3259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erhaps the secret to effective action lies in how you interpret the length of the "day" in Carpe Diem. If it's a moment, or a day, you're cutting down the odds for success. But if you recognize that in business as in sports (or any of life, for that matter), there's a "season" made up of several opportunities, those odds go up considerabl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317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04200" cy="419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ess upon every man, from first to the lowest, the importance of the cause and what it is they are contending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1008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knows what force gnaws at us, telling us that our accomplishments, no matter how sensational, are not enough and we need to do 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514600" cy="313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turtle is on top of a fencepost, he sure didn’t get there by him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25780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ducated guess is as accurate and far faster than compiled err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386160" cy="407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acency is the last hurdle any winner, any team must overcome before attaining potential greatness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400480" cy="3390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is never final; failure is never fa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641320" cy="349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only one way to do anything:  The right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21156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is no greater waste of a resource than that of unrealized talen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2031840"/>
            <a:ext cx="434340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7:05:07Z</dcterms:created>
  <dc:creator>Ed Center RLASD</dc:creator>
  <dc:description/>
  <dc:language>en-US</dc:language>
  <cp:lastModifiedBy>Ed Center RLASD</cp:lastModifiedBy>
  <dcterms:modified xsi:type="dcterms:W3CDTF">2011-06-08T17:55:02Z</dcterms:modified>
  <cp:revision>1</cp:revision>
  <dc:subject/>
  <dc:title>People acting together as a group can accomplish things which no individual acting alone could ever hope to bring about.</dc:title>
</cp:coreProperties>
</file>